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2B3D-F3E7-4E2D-8C9B-FEB06AB2E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F880-5938-4763-B5BC-3789E2C5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0CE83-CDAD-4135-B9E9-93651C1F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859C7-6AC3-4171-88BD-8ADE0FAE9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B8E18-67DB-45F2-98FA-BEE94537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23A9C-D858-4E37-B6E1-18C64B72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E4056-D0C7-4233-8184-374343F7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925B4-FEBC-44C6-9EF9-3B70A6C2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0F5B7-2275-496F-8282-21FDCD9F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F9448-94B1-485F-A5BB-8CD5FDBF9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CF8546-7D2E-4BBF-BA80-2C6AC09E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751B8-A75D-4586-8F3E-EF15D69C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E4E1-AB21-4AE6-BD40-764F02924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29D1F-4509-4E49-B2E4-D5CB62000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529CE7-22DF-4693-B9F3-5CC8E65A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7D45B8-C809-4833-B8FB-7EC7DDC2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67A87-5061-4877-B6F7-EED48ADD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B7111-9DAA-43C0-A655-ADB1B861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965F8-DC85-4370-BFC6-EC0D384C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75238-0AE1-4841-A35C-6B118A34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B184D-9E57-4BAE-99A8-DDD0F570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866B1-E976-4C7B-90CB-F4D89824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17B79-CEAF-45AE-800E-912B611BE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0099-6C85-431B-B622-9D0E53FF4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661E2-DA09-413B-97DC-EA158E91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3FE0C-39B4-4702-90CC-1B123D982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E9A7C-62E8-4504-9BC1-893B7A02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8E26C-9B6A-4D1C-ADEC-3508588C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A3D41-B3A8-4717-9346-FBB469E7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4E0B6-2FFD-4132-9AC4-DF2BDD1E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080AC-2A43-469E-B9C5-84927A24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E348B-FE84-4A8D-8076-57ECF3B8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35993-49AE-4A83-A085-380DF14C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EB4A4-C1CE-4D8C-A1C1-D4242608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355A-5792-4BBC-A885-63A45CBB7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D48E4-27C7-4A8E-A92D-715838A4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284E3-EAAC-482E-81A4-2A76F517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B9199-3AE4-4B15-B093-9CA4D49B0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D8504-3925-459D-A08D-AD994BD1A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E33DB8-5F71-47D5-BB5A-382290C7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7D4D47-A626-48E1-A0AC-B809DC54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FCA6C-DFE0-49EA-96D8-4223129B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F5D89-B3F3-47B5-84EF-0A42FAE7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445DB-976B-42B0-8C62-E39650BA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87FB14-FB69-430A-9451-C04FB218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1695-65F1-44D4-95E6-7EE3E54A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BE5D6-FB61-48C5-8DF6-292CFDBB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010D0-15B6-4C86-AECE-6E067DBD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D361B-DA61-43AC-9866-EB5D2ED4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276E82-B479-4D65-8AAB-B0D00983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B459D1-CF44-49A3-94A3-85BA3AFD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8A1D77-E0A5-4AA2-B2DD-8CFEC0A5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A825F6-77EC-4080-BFCA-8E83E717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0096B9-59E4-4B92-BCD1-3495CCB6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F8A088-45C2-4EB5-9F0B-E0F3BB45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BC6A01-CDE8-4F4F-8974-B41CEE1B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BB68-1DDE-401E-B298-6BCC6818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069205-286E-42ED-A426-51D3A565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F79BEA-D3D8-4857-A434-FDA50EFB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FBBA44-4340-495E-B676-0892FB61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649D71-06AD-43FC-A2D7-8A403EC1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25673B-E4A9-41DA-ACD4-6783C931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1C62F1-BE96-4585-B685-47B736575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15573C-0944-4556-8704-3BC0466DC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4195A1-51A8-467B-88A6-294D6711F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57783A-7747-46A8-A89B-67DA51B2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07B52D-779E-4070-A663-DD3D4BDE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E3AF-A3A3-405F-9AE7-E255945A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07398B-D835-421E-AB42-C2F7C0B7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AD723E-3B66-4DB2-87BA-482079B2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89BC31-7736-4339-B272-1EC24039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8702D5-9CF2-47E2-86DD-015885E0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44E745-1ADD-47C1-AFAB-2273456F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A9E5E4-5454-468C-9056-5F96778A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4BCB87-6FD5-4A8B-AD24-B2BCBF0B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C0E981-29FD-4012-B426-7986A8377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EA61C4-CFFC-4165-8073-2E8C194B9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0B5B5F-AF3B-4732-9A2A-49506122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A43D-99CE-4AA8-A379-485D4AFF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FC09CF-82D0-423C-B450-D5E14A65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F70CE4-4036-4B93-9663-45E57B8E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5E76D1-9AA4-4958-878B-8F2EEEB6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3C7AC8-39FD-4173-908B-D6FFC2B8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0242ED-4C66-44E7-90D3-59BD97EF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C37F10-483A-494E-A447-CB496B0D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F58B61-BFF7-48EA-8AA7-EE363309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BCAD40-47E9-41DC-BBDA-F9690527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BFE98A-5D45-45EC-ABE9-90002340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F94765-3730-43A4-80CE-09B96D9DF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317B-7845-42FE-A4A3-7BD18A56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605122-8F80-4FAB-B725-16CEB13F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497000-07AD-40AB-B957-3C0A3A13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75E6F8-64BB-41B5-86C9-30BB7BF6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3A9034-9660-4216-8C74-9BB03189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E73A70-D929-4ACA-BC57-EAD5D802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011372-73FB-4A11-A3B8-00D80E0D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F61451-B95E-4232-91D1-1705A0DB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BB7E87-B867-41AD-93F3-4A65775B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FA81D9-DD93-46C4-862D-ACFFDD14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FA8546-1CBA-4516-94BD-88223DBE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CAA1-DD23-462C-97CA-F77F12BC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EE6422-0E7A-4516-80FE-FF11D20E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D845C0-0A99-47E5-8E2A-86852C423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A02C70-023B-4242-8D24-E39DB490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FE079E-78B1-4756-B1C0-69075165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452B4C-1846-478E-B590-03A65E97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58C69E-0865-4569-9AC1-BAC8C526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97FEC3-C942-45B8-960D-9F3CFCD5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BB96AA-58D2-4B39-B2AB-15ECC5D5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5FDDAF-A955-46D0-8C27-BCC659C1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89B9FE-5003-4109-A3FA-51833DE3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DE70-9053-4226-B5F2-A4EE6C6F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19D1-DF2E-4C65-9329-D910F8EA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8B0007-46A4-476B-BB07-7B5EF5B0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5B63CD-86D2-4661-90FD-0729CE96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9AA6EE-94E5-451F-8404-5E70A8C4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617AC0-F076-41CC-958B-4E032DDEA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477F06-6195-4212-A91A-5D16188A6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562E73-B5F7-47D9-BF99-B8F9A02D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7042EA-3448-4E4B-903B-80D2ADBE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63475C-0E1C-4D95-9E6F-3CD19C47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E8D82A-C201-442E-A658-47BCB73A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07BC94-1CB0-4993-91AD-8145CA3E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31D0-1FBA-4B36-A882-3D736D53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CCB257-5EB6-45CB-84DE-2447E98E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384C0E-7051-41EA-B544-67156DE4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D7F6CD-F11D-461B-88B0-E7B331A4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02C771-1A99-4A74-82E8-F2BF7726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C7CC0E-1EAC-4FC8-8782-65341A15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348E91-968D-4154-8F78-96503E680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DF62E1-31A5-4D45-AE9A-D1BE3E1A9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02C14D-631F-4B22-813D-0713B196A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FFC372-7C92-4B81-AD48-5EEB3E33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CB7B87-1730-4689-9855-A6977A8B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C69D-B983-423A-81F7-E0A02989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8C45D0-E977-419E-A060-E14769DA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BB2483-54F4-455F-A77E-20FABFCF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AEA562-B79B-4662-B40D-F741F4B0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E2D865-9830-4A66-BF93-B295E5CE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17007A-F36E-4280-8F6B-E620E0DD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42BE0C-4793-4523-803D-7F50FB2D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F1A705-1901-4BFF-A51C-DA787C39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03AE79-0967-4123-86AC-C4E80FB6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000B4F-DBBC-40CD-AF90-A1CD9B28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E442D5-B057-41AC-B286-2681CC611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B00E-DDBD-4DFD-99CD-A91EC243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783397-2D66-42AF-A9A5-D403B14E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50AEE2-F672-4EE9-8F0A-D84F0FD8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461BB1-D09A-4A25-9A42-8CF9EFEA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86921C-168C-464B-B611-545B5375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7421FC-D673-4AC1-B37E-72814505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87912C-9F8B-40C1-BDCD-12469391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486239-377C-41F4-B8D7-46DA70EA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3383CC-2BAF-4B5F-82CE-80605149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BBDB1D-F21B-4624-9E7E-ADF94F24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A69686-4F08-4792-A5C3-EBA565BB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2347-1827-4C5F-BC4A-CBE02B22B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222980-435C-466E-9333-FC6E2C99F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10D906-C4A0-4893-8EED-F171130B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0E9F4E-443B-40F5-BFEA-3EA26E30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A36E2D-23DE-46C9-8404-623CF1C3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45FEF9-0173-4960-8F58-B38ED2A1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798AF5-C063-41E3-9E94-B7FA2F40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574D07-ABD9-4A64-870F-564E45C8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8A1FBA-8697-4C34-94C9-5C9AEA3F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DFD3F1-93FE-4E1B-9D36-B0AB5711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3C89D8-DE7C-416C-BD2E-8AE35D5E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464C2-2288-4ADF-8025-9C5E2614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E64FBC-D4ED-453A-AF60-33246094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B14EAF-1371-4CCD-8656-2C154B059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B58153-A7E5-4977-902D-10F3B8646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CD8162-F9F7-47F6-B700-A5B0B403B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18FC3C-7534-49AF-8C08-419B92BC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F53DDF-404B-4189-B7AB-60877706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802C66-9694-4780-A414-0895222F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4FF543-421B-4481-9B7B-177D6CF2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797098-D759-4E80-8979-325E415D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B8C608-70CD-4B9D-A118-7D0F2657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95FE7-7158-47A1-9502-9FBDC49C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8643DA-408E-4E84-BFE9-792F551B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830008-8DF8-478C-AB0D-CFAE3680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2BEA6B-EBF1-4D13-A63A-7D527999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28A26C-CA28-46CC-8654-8E487A7AE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B07003-9065-4D63-BA6A-550C6B8CC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B77113-88B8-4FE5-8936-A079C9818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B361F4-D138-43C9-BFA6-4F0B6EE6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86E51C-B857-4E49-AC48-4FDAC4D2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B37FAB-677D-4CA0-B572-085D9B5B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AE60DE-87BA-4DD9-BB2C-74ED58CC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77708-CA19-4632-8C9B-7CE1B41B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7123BA-C03C-47AF-A920-49C2049E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EFA7F7-F574-469B-8CE5-F658C0B1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A8B301-DA18-4D85-A37D-CB123BA4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9E7DA6-43A4-4CD7-B962-49912A39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6DA5A5-37C1-42C4-91E0-56F1C127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CA6622-3097-4BFE-9100-5A1B5740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515926-556C-4387-AF25-843F520A3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9361FF-B0B0-479E-A350-644EA66B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58DE44-EEC1-4358-ACB0-4AAB4DD5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73BC50-2458-4B07-83A6-F2A94CA0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40490-8390-4BB7-BDB1-D7558947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9ABFA6-E0C9-404A-95D4-FBA3B3F4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865591-E7D0-4274-80AA-886D4D63D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2E43782-808F-4DF5-BAAB-3AC40255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C14253-E32F-48AC-BC90-587FEE68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F92127-2FF4-4F71-8F63-C6119E0E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AD1C50-FF78-44B7-92BD-66CFE8F7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E6F53D-3B70-428D-B381-B36A52A6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B07356-783C-4654-8BD8-8DEAA61C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B14FF6-FC8A-45CB-BA47-1009EDBC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0D6554-7AD2-452D-88A6-120818C68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403F8-451D-4D66-A6F5-2D0DB670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890F20-ADA5-4859-8D06-6BFC237A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BDCDBC-C3DA-431A-9AF9-BF8BD35E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D89050-94F6-4D27-BADC-8176D0AB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9DA9A7-00A3-4614-B8D5-9C6BDF56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C51DC95-B64C-4971-B4C2-01C429B4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E381A9-D0BC-47BA-A166-1DD5935C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D19B85-6AF3-4F6A-A9E8-9814B406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9A52A7-F01C-4591-AE03-51B1720F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E70FB7-6A59-440B-B4DB-ABEC6444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AA0ABD-97A7-4FA4-9A20-D3D1D76B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9F7D-6503-4A7A-92F3-3A478551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8F106-86E4-4D74-A4D8-94FE3086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96E2961-200B-4C19-9390-10886C5A2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2AB3C2-52E0-4BF3-8F25-4108C71CA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1516AB-B760-45F7-A9E0-2C905E3F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A0EB54-DCA8-4584-B09F-FEBFD089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D294F86-59C8-40FE-BF62-E0F193FE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834381-9CF8-4393-9814-1350E859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44BB58-4CB7-4C63-BE71-CC2577A7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622480-90FD-4EE7-86D2-CC49F033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C7DBE9-4F9C-41AC-B25D-7FE0AB45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256DA2-9E50-402D-944B-2D49DE19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F5842-F658-45A3-8CFE-0AFF600E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4FA4A49-5937-4458-9BAC-296002EF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4D5E45-3190-4B9D-B9BE-EF737C45F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3D657B-E6CE-43A2-BC9D-AC3E14D3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83105C-3F36-469F-8E1A-88077382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074022-F6AD-445F-85C3-ACED3AE4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09BB30-D1D8-4B77-8D13-EE8E3718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F8117E-044F-4BF6-98AA-73F31A64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2D5AC0-041B-4102-A45B-A3B8B90A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B28F58-ECF6-47AF-B6B5-024068A0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E32034-888A-4A11-9FDE-B5841CD5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6F9B0-F0EC-40F3-8BCE-A84144BA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959BC9A-7724-4EBF-8D42-79AD6792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22FA14B-BBFE-405D-83FF-C81464FE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E96C13-65E1-4D76-A674-B3DB6702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E05EB0-BF5F-46B1-B977-25C1D6D0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BE0635-71C2-435D-8F93-61D9CF71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8ED62FE-DB32-4A3E-861B-1D655346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E60404-F93E-4C3D-B70D-73F83132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BE1116-5F1E-4B5A-AAC4-C7C5E968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E90389-FA93-4F0B-BE3E-CA7498E2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1749E9-6AC4-43CB-9638-6CE6D76E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33545-F060-4873-B32C-84947022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E18E8F-31FE-4433-BA14-5517FB87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3956582-7F79-4501-930A-22BB11B0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F713C9-BDD3-4F04-B673-CBC68A02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19CE70F-6217-4A77-BF3F-3416CF14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20DA52F-80C2-4EB9-BB4C-F861B7A7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D0D0B20-CA18-497A-A06E-9046CD61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8C5821B-9842-4039-9CCF-35C4141C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D9C0EE4-4B98-4676-8934-B5D72D3C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F943704-7AA1-40C0-857F-C1AE8FF5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77634A8-1262-4AD9-A1B3-1CF9CE2BA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3FD16-3A26-4D53-82C9-0259DC69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F5B76A1-7491-4AB1-BA4E-DFF312EA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653D395-657E-4FC8-B7F7-DD610A5C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A95D448-A397-4751-B2DC-C28DFC90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32D8039-7B78-42D2-AF1D-386789F1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A027DAD-AB38-417D-B97E-624ADD76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C279BE-37A6-4230-85E4-DF9802B2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AA73447-5F70-4C42-9A7F-BF0324BB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81ED0D-9366-4B6C-B386-5BA8DB3F8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88AB894-B9CA-40A9-9FDB-0723B1E7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020F2F5-E8D7-492B-AFD8-D9CF1389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1518B-4E40-4CD2-A734-7F7C330C1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4DDEE7E-3EB6-40AB-8ED9-EED97BC3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AAB4A71-DF38-4671-B69F-E0A4B1E4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4583C87-4893-4BA0-8AED-84617BD1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093D40-32A7-47FB-90EF-B1983F88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2D27064-2D89-4DF1-A05A-1B1E25C0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CE3BA31-CFA0-4544-9DC1-15F1B1B8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94A74D-1EE3-4FA2-85C8-2D8F0575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A19FF81-1F58-4609-BC97-B6546672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DD0AF9C-8AA6-44A1-82CC-72865A4C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EA71D48-D668-480F-9D12-00B20F3E2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E0913-CB21-4B88-8864-FB4AB257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FA19E36-B694-47DB-A10E-B4460939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CDEA4D-B2ED-4678-B626-A376C1B6A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E35AE26-1896-4EC3-A1D9-A5172C52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7D2FD34-1100-488C-8D4A-7AD466D4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D3778AA-268B-4A27-83CD-45B3AA5F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0D5504-99D0-4DA9-AF1E-DB121552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6D17835-D4EB-4E8D-9E88-9203C2BB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FA5F2A-B50D-48EF-AD90-8063E03E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A892AA2-15AC-49B0-AFA5-2859C175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64887F-94E5-4478-AFB7-89CD0E32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081B9-D9FE-4202-BF38-77A92F98E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AE60B8-0575-4708-B1DD-9409D75D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FEE3799-4085-44F7-B0AC-4722CFE5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7F71C3F-48C9-48CC-8283-BB3C01BA4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67E13-86CF-41CD-9D40-A58A13CD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B31C9-2936-46F9-BA36-36C2017F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B061-8CD1-4483-B25F-42C1B9C3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06483-F462-4D22-9C78-49F65960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C523D-1F62-42CF-8B0E-B9D65522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3F978-700B-4A5A-91B5-48D8C7C4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34E5C-82B9-4F79-8C23-530EFD41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7C8B1-EC09-4171-8534-DE4C4756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187C6-8127-4D97-8F9B-38257EF2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20C9F-94BD-4D9F-AB07-696566B4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7AD6B-9811-41DD-BEEB-00C20AE1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12D20-30DD-45E0-9FDD-3DA366BAE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A979F-388A-4475-B4E8-E1F352D7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1170-9016-4E4B-A0C2-B0CB5D17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E7A9A-71EF-46F5-934F-B266FF4A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0A6BC-63D4-419D-9C26-E019B3B5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AA298-D306-4DAC-A66C-28B4535A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FF9F4-842E-401A-B39A-25B54601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F24EF-81A5-4DF2-BFB0-D384EADD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957CA-CBEF-4246-B4D6-5C7D4ABD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162DA-8690-4A95-BB38-6DD85D73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B7CA9-46DF-4779-9B60-4001F8DF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2F83F-7E5E-4DE5-B4F5-B09A23EA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5C7E6-6ED5-46B9-A208-3A7EE264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C6D7-6092-48BE-8EEA-00C76DE8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22591-9AD2-456C-9C5A-D76F1D942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52C82-1E62-4109-A3B9-84DD121E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8FBF3-DAB1-4A1D-9CB1-7B69CB58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3983C-047F-445A-895B-25939CB5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6D36E-4DFE-4771-A479-40BCCF16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4CA68-ED85-4D4A-B6C8-37AD056B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767E5-108C-45AE-BE2D-EA93AEDE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56F9F-7AFA-4114-BCC7-DCC5AB25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4C67A-421C-4F03-9B2B-2F2B2835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8E324-516A-43D0-9451-04B76BB4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A4BD-87AB-460D-953F-D8A286E3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9ACBF-EA7D-4B1D-A073-6ADD575A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E26CD-CD05-4605-B4B8-4F633550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13C0B-505F-4CD8-A754-360635B7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A1E90-3503-4759-8C8B-E591F334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E6826-073A-4B71-AD6B-C1AF8841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135C3-5D82-457E-B317-0ED04D09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ABB58-AC05-4377-B1DB-DD5196BC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957EA-E482-494F-BA4C-F7E0DF9E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664B8-20AB-429E-85E1-8590AB94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42878-38EB-44CB-AFD9-5A41C09C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B46D-C681-479B-A5D4-021AAE7B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B10E9-F961-4227-B1D9-20D184BC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771EF-872D-4787-AB3D-C56F68DD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F9FB2-AF95-411D-806E-ABB82544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FF5CB-E58A-4F40-BA65-949CBFC20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B2D01-3662-4773-B852-26538D5F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FBBAE-B256-4A51-9A58-9E465C67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D4262-501C-4D70-906E-F77F3D01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94A6F-415D-4DD4-914F-FC98FBFC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031E9-D8C3-48E6-A862-2CE41285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9DB61-BD17-494D-9F11-C9E6FBD0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2FD1-B47A-4428-96C8-811DA70F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A584E-9A12-44C7-A659-28EDB28D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8AEAF-43FD-4FF3-AA21-4B95ABE7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FCF0C-B37A-4C6C-A0EE-0CFA5EDA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C81F9-367A-4FC0-B52C-EA0D8F45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7DAC7-B796-472E-9D7A-2C49AC9A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428E8-7701-4B21-ABFC-DF2DF2076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CC782-06EB-4C28-9802-3A278C6B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60F91-8757-4EB1-A615-99AF9E4F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D19A4E-3194-4109-8C0A-A83082D8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5326A-9647-4A9C-AAD2-93888A84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B5D8-DF83-4F8A-858C-D455D68120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F4F7-BEE2-40A3-84B8-94A029C91D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3FF5-4EC8-416F-9A18-3F9329E61B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FB57-E26C-4359-8F2E-2CE3EA0DD2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3210-44F1-416A-AF9A-4D4DFE2C6E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1176-9F98-414A-B747-4528B05BA7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58E6-D035-4A4C-86CA-011E0DB5D4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EE81-5AAA-46E7-885A-DA6093018F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632E-3FBF-4F13-B05B-F6440135D2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4A07-72BE-439D-B05C-8BAF3C816D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BD56-E01C-41D2-93AF-5000D08F17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1BAF-9AB9-409D-ACF6-994B89ADA2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7814-7EC2-4677-9550-DFF132B4CA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8575-0F1B-4200-83B0-C4ACAE5DBC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9E3B-3891-4B16-A8C4-D4C2F27018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FBB1-5667-4B49-9A58-ADDDBD1814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C542-3B15-4B6D-B616-4C18503319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2482-A06D-476B-9C63-DDAC743DE5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6D88-7A0D-47ED-9A49-4D00057400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69D8-1CAB-47BA-AFB4-43D32F2486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9807-F688-4C4D-A15A-7CCD726580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2593-ED18-4724-A31E-464607CA12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EC67-E0B9-4125-81BD-E474280DD1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8581-7C73-4FC5-B23E-85AB957B4D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2502-4F90-4BC6-8F15-562B11851F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F235-0379-4AEE-B9CF-4BDC479927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0A44-CF99-4468-80B2-D1BD19E411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1752-7810-4A69-822B-21C7C4F3F7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96BC-1129-4B51-96FA-5B4A07C3F8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69D3-9BD2-40F4-9042-BC10EA7B56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9A5F-98C8-4CC1-BAC9-FC27F287E5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0A81-BA6E-42D0-B161-BC632D0735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FEEB-732B-4CD3-8D2C-50127AA807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1116-7823-4020-A903-273F34CD89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9F89-520C-4C84-B4ED-B6A93E6843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7DE1-EB62-4907-A988-D302A9C41E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AB06-4AB7-435F-ADD1-ADC3AEA3DA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D190-FB94-4022-8A41-59BF254E81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584C-7770-4102-806E-A9C1D63A60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61A5-056D-45D8-A1A1-9017022E82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82DF-A3E0-4232-9869-4799F0EB1E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6F86-714B-41C4-84C3-4435A6AD36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7A45-2E4C-4EA8-9CD3-226F61B605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0A40-44BD-4CA8-ACAB-DFC3C1FB50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CC45-D902-48E6-A69A-EA1BD998B7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7EED-26F1-4C9F-91E9-22FE740AB3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8209-93C5-4F9C-A490-3D6D89E582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D8BA-6B99-4881-8A4B-73671C56AF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7E4E-BE01-45AC-AFC8-9D48701A11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9DD2-F00E-4E92-83C5-2CFD92DA13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0" descr=""/>
          <p:cNvPicPr/>
          <p:nvPr/>
        </p:nvPicPr>
        <p:blipFill>
          <a:blip r:embed="rId1"/>
          <a:stretch/>
        </p:blipFill>
        <p:spPr>
          <a:xfrm>
            <a:off x="2500200" y="3019320"/>
            <a:ext cx="414360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79873" descr=""/>
          <p:cNvPicPr/>
          <p:nvPr/>
        </p:nvPicPr>
        <p:blipFill>
          <a:blip r:embed="rId1"/>
          <a:stretch/>
        </p:blipFill>
        <p:spPr>
          <a:xfrm>
            <a:off x="539640" y="752400"/>
            <a:ext cx="8115480" cy="6105600"/>
          </a:xfrm>
          <a:prstGeom prst="rect">
            <a:avLst/>
          </a:prstGeom>
          <a:ln w="0">
            <a:noFill/>
          </a:ln>
        </p:spPr>
      </p:pic>
      <p:sp>
        <p:nvSpPr>
          <p:cNvPr id="1466" name="矩形 79874"/>
          <p:cNvSpPr/>
          <p:nvPr/>
        </p:nvSpPr>
        <p:spPr>
          <a:xfrm>
            <a:off x="7862760" y="1247760"/>
            <a:ext cx="53028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78849" descr=""/>
          <p:cNvPicPr/>
          <p:nvPr/>
        </p:nvPicPr>
        <p:blipFill>
          <a:blip r:embed="rId1"/>
          <a:stretch/>
        </p:blipFill>
        <p:spPr>
          <a:xfrm>
            <a:off x="528480" y="1295280"/>
            <a:ext cx="8087040" cy="4267440"/>
          </a:xfrm>
          <a:prstGeom prst="rect">
            <a:avLst/>
          </a:prstGeom>
          <a:ln w="0">
            <a:noFill/>
          </a:ln>
        </p:spPr>
      </p:pic>
      <p:sp>
        <p:nvSpPr>
          <p:cNvPr id="1468" name="矩形 78850"/>
          <p:cNvSpPr/>
          <p:nvPr/>
        </p:nvSpPr>
        <p:spPr>
          <a:xfrm>
            <a:off x="7815240" y="4172040"/>
            <a:ext cx="42552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图片 77825" descr=""/>
          <p:cNvPicPr/>
          <p:nvPr/>
        </p:nvPicPr>
        <p:blipFill>
          <a:blip r:embed="rId1"/>
          <a:stretch/>
        </p:blipFill>
        <p:spPr>
          <a:xfrm>
            <a:off x="514440" y="2462040"/>
            <a:ext cx="8115120" cy="1933920"/>
          </a:xfrm>
          <a:prstGeom prst="rect">
            <a:avLst/>
          </a:prstGeom>
          <a:ln w="0">
            <a:noFill/>
          </a:ln>
        </p:spPr>
      </p:pic>
      <p:sp>
        <p:nvSpPr>
          <p:cNvPr id="1470" name="矩形 77826"/>
          <p:cNvSpPr/>
          <p:nvPr/>
        </p:nvSpPr>
        <p:spPr>
          <a:xfrm>
            <a:off x="5681520" y="2952720"/>
            <a:ext cx="59688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77827"/>
          <p:cNvSpPr/>
          <p:nvPr/>
        </p:nvSpPr>
        <p:spPr>
          <a:xfrm>
            <a:off x="3851280" y="3933720"/>
            <a:ext cx="84456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2" name="图片 76801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048880" cy="961920"/>
          </a:xfrm>
          <a:prstGeom prst="rect">
            <a:avLst/>
          </a:prstGeom>
          <a:ln w="0">
            <a:noFill/>
          </a:ln>
        </p:spPr>
      </p:pic>
      <p:pic>
        <p:nvPicPr>
          <p:cNvPr id="1473" name="图片 76802" descr=""/>
          <p:cNvPicPr/>
          <p:nvPr/>
        </p:nvPicPr>
        <p:blipFill>
          <a:blip r:embed="rId2"/>
          <a:stretch/>
        </p:blipFill>
        <p:spPr>
          <a:xfrm>
            <a:off x="1042920" y="2060640"/>
            <a:ext cx="7601040" cy="3809880"/>
          </a:xfrm>
          <a:prstGeom prst="rect">
            <a:avLst/>
          </a:prstGeom>
          <a:ln w="0">
            <a:noFill/>
          </a:ln>
        </p:spPr>
      </p:pic>
      <p:sp>
        <p:nvSpPr>
          <p:cNvPr id="1474" name="矩形 76803"/>
          <p:cNvSpPr/>
          <p:nvPr/>
        </p:nvSpPr>
        <p:spPr>
          <a:xfrm>
            <a:off x="6834240" y="1581120"/>
            <a:ext cx="50148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76804"/>
          <p:cNvSpPr/>
          <p:nvPr/>
        </p:nvSpPr>
        <p:spPr>
          <a:xfrm>
            <a:off x="3132000" y="2492280"/>
            <a:ext cx="111132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图片 89089" descr=""/>
          <p:cNvPicPr/>
          <p:nvPr/>
        </p:nvPicPr>
        <p:blipFill>
          <a:blip r:embed="rId1"/>
          <a:stretch/>
        </p:blipFill>
        <p:spPr>
          <a:xfrm>
            <a:off x="523800" y="1728720"/>
            <a:ext cx="8096400" cy="3400560"/>
          </a:xfrm>
          <a:prstGeom prst="rect">
            <a:avLst/>
          </a:prstGeom>
          <a:ln w="0">
            <a:noFill/>
          </a:ln>
        </p:spPr>
      </p:pic>
      <p:sp>
        <p:nvSpPr>
          <p:cNvPr id="1477" name="矩形 89090"/>
          <p:cNvSpPr/>
          <p:nvPr/>
        </p:nvSpPr>
        <p:spPr>
          <a:xfrm>
            <a:off x="971640" y="2637000"/>
            <a:ext cx="232092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8" name="图片 89091" descr=""/>
          <p:cNvPicPr/>
          <p:nvPr/>
        </p:nvPicPr>
        <p:blipFill>
          <a:blip r:embed="rId2"/>
          <a:stretch/>
        </p:blipFill>
        <p:spPr>
          <a:xfrm>
            <a:off x="3348000" y="2637000"/>
            <a:ext cx="277164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图片 90113" descr=""/>
          <p:cNvPicPr/>
          <p:nvPr/>
        </p:nvPicPr>
        <p:blipFill>
          <a:blip r:embed="rId1"/>
          <a:stretch/>
        </p:blipFill>
        <p:spPr>
          <a:xfrm>
            <a:off x="471600" y="1023840"/>
            <a:ext cx="8200800" cy="4810320"/>
          </a:xfrm>
          <a:prstGeom prst="rect">
            <a:avLst/>
          </a:prstGeom>
          <a:ln w="0">
            <a:noFill/>
          </a:ln>
        </p:spPr>
      </p:pic>
      <p:sp>
        <p:nvSpPr>
          <p:cNvPr id="1480" name="矩形 90114"/>
          <p:cNvSpPr/>
          <p:nvPr/>
        </p:nvSpPr>
        <p:spPr>
          <a:xfrm>
            <a:off x="6515280" y="4884840"/>
            <a:ext cx="1977840" cy="40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90115"/>
          <p:cNvSpPr/>
          <p:nvPr/>
        </p:nvSpPr>
        <p:spPr>
          <a:xfrm>
            <a:off x="1619280" y="5373720"/>
            <a:ext cx="66348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图片 91137" descr=""/>
          <p:cNvPicPr/>
          <p:nvPr/>
        </p:nvPicPr>
        <p:blipFill>
          <a:blip r:embed="rId1"/>
          <a:stretch/>
        </p:blipFill>
        <p:spPr>
          <a:xfrm>
            <a:off x="804960" y="1676520"/>
            <a:ext cx="7534080" cy="3504960"/>
          </a:xfrm>
          <a:prstGeom prst="rect">
            <a:avLst/>
          </a:prstGeom>
          <a:ln w="0">
            <a:noFill/>
          </a:ln>
        </p:spPr>
      </p:pic>
      <p:sp>
        <p:nvSpPr>
          <p:cNvPr id="1483" name="矩形 91138"/>
          <p:cNvSpPr/>
          <p:nvPr/>
        </p:nvSpPr>
        <p:spPr>
          <a:xfrm>
            <a:off x="5819760" y="3398760"/>
            <a:ext cx="222552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91139"/>
          <p:cNvSpPr/>
          <p:nvPr/>
        </p:nvSpPr>
        <p:spPr>
          <a:xfrm>
            <a:off x="4427640" y="4292640"/>
            <a:ext cx="117792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5" name="图片 92161" descr=""/>
          <p:cNvPicPr/>
          <p:nvPr/>
        </p:nvPicPr>
        <p:blipFill>
          <a:blip r:embed="rId1"/>
          <a:stretch/>
        </p:blipFill>
        <p:spPr>
          <a:xfrm>
            <a:off x="781200" y="2062080"/>
            <a:ext cx="7581600" cy="2733840"/>
          </a:xfrm>
          <a:prstGeom prst="rect">
            <a:avLst/>
          </a:prstGeom>
          <a:ln w="0">
            <a:noFill/>
          </a:ln>
        </p:spPr>
      </p:pic>
      <p:sp>
        <p:nvSpPr>
          <p:cNvPr id="1486" name="矩形 92162"/>
          <p:cNvSpPr/>
          <p:nvPr/>
        </p:nvSpPr>
        <p:spPr>
          <a:xfrm>
            <a:off x="2631960" y="2484360"/>
            <a:ext cx="103500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92163"/>
          <p:cNvSpPr/>
          <p:nvPr/>
        </p:nvSpPr>
        <p:spPr>
          <a:xfrm>
            <a:off x="1547640" y="4292640"/>
            <a:ext cx="73692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8" name="图片 93185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124840" cy="5524560"/>
          </a:xfrm>
          <a:prstGeom prst="rect">
            <a:avLst/>
          </a:prstGeom>
          <a:ln w="0">
            <a:noFill/>
          </a:ln>
        </p:spPr>
      </p:pic>
      <p:sp>
        <p:nvSpPr>
          <p:cNvPr id="1489" name="矩形 93186"/>
          <p:cNvSpPr/>
          <p:nvPr/>
        </p:nvSpPr>
        <p:spPr>
          <a:xfrm>
            <a:off x="7763040" y="4075200"/>
            <a:ext cx="492120" cy="428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88065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3467160" cy="714240"/>
          </a:xfrm>
          <a:prstGeom prst="rect">
            <a:avLst/>
          </a:prstGeom>
          <a:ln w="0">
            <a:noFill/>
          </a:ln>
        </p:spPr>
      </p:pic>
      <p:pic>
        <p:nvPicPr>
          <p:cNvPr id="1434" name="图片 88066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8505720" cy="2676600"/>
          </a:xfrm>
          <a:prstGeom prst="rect">
            <a:avLst/>
          </a:prstGeom>
          <a:ln w="0">
            <a:noFill/>
          </a:ln>
        </p:spPr>
      </p:pic>
      <p:sp>
        <p:nvSpPr>
          <p:cNvPr id="1435" name="矩形 88067"/>
          <p:cNvSpPr/>
          <p:nvPr/>
        </p:nvSpPr>
        <p:spPr>
          <a:xfrm>
            <a:off x="4211640" y="1916280"/>
            <a:ext cx="757080" cy="33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88068"/>
          <p:cNvSpPr/>
          <p:nvPr/>
        </p:nvSpPr>
        <p:spPr>
          <a:xfrm>
            <a:off x="6699240" y="1946160"/>
            <a:ext cx="14619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88069"/>
          <p:cNvSpPr/>
          <p:nvPr/>
        </p:nvSpPr>
        <p:spPr>
          <a:xfrm>
            <a:off x="3722760" y="2349360"/>
            <a:ext cx="6332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88070"/>
          <p:cNvSpPr/>
          <p:nvPr/>
        </p:nvSpPr>
        <p:spPr>
          <a:xfrm>
            <a:off x="6411960" y="2349360"/>
            <a:ext cx="58572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88071"/>
          <p:cNvSpPr/>
          <p:nvPr/>
        </p:nvSpPr>
        <p:spPr>
          <a:xfrm>
            <a:off x="1855800" y="2766960"/>
            <a:ext cx="576360" cy="2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88072"/>
          <p:cNvSpPr/>
          <p:nvPr/>
        </p:nvSpPr>
        <p:spPr>
          <a:xfrm>
            <a:off x="3376440" y="3137040"/>
            <a:ext cx="1433520" cy="25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88073"/>
          <p:cNvSpPr/>
          <p:nvPr/>
        </p:nvSpPr>
        <p:spPr>
          <a:xfrm>
            <a:off x="7740720" y="3141720"/>
            <a:ext cx="900000" cy="268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88074"/>
          <p:cNvSpPr/>
          <p:nvPr/>
        </p:nvSpPr>
        <p:spPr>
          <a:xfrm>
            <a:off x="539640" y="3500280"/>
            <a:ext cx="8715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88075"/>
          <p:cNvSpPr/>
          <p:nvPr/>
        </p:nvSpPr>
        <p:spPr>
          <a:xfrm>
            <a:off x="2949480" y="3857760"/>
            <a:ext cx="121464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88076"/>
          <p:cNvSpPr/>
          <p:nvPr/>
        </p:nvSpPr>
        <p:spPr>
          <a:xfrm>
            <a:off x="611280" y="4292640"/>
            <a:ext cx="871560" cy="268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88077"/>
          <p:cNvSpPr/>
          <p:nvPr/>
        </p:nvSpPr>
        <p:spPr>
          <a:xfrm>
            <a:off x="6084720" y="4292640"/>
            <a:ext cx="1176480" cy="268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图片 87041" descr=""/>
          <p:cNvPicPr/>
          <p:nvPr/>
        </p:nvPicPr>
        <p:blipFill>
          <a:blip r:embed="rId1"/>
          <a:stretch/>
        </p:blipFill>
        <p:spPr>
          <a:xfrm>
            <a:off x="357120" y="1128600"/>
            <a:ext cx="8429760" cy="4600800"/>
          </a:xfrm>
          <a:prstGeom prst="rect">
            <a:avLst/>
          </a:prstGeom>
          <a:ln w="0">
            <a:noFill/>
          </a:ln>
        </p:spPr>
      </p:pic>
      <p:sp>
        <p:nvSpPr>
          <p:cNvPr id="1447" name="矩形 87042"/>
          <p:cNvSpPr/>
          <p:nvPr/>
        </p:nvSpPr>
        <p:spPr>
          <a:xfrm>
            <a:off x="4278240" y="3430440"/>
            <a:ext cx="1204920" cy="32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矩形 87043"/>
          <p:cNvSpPr/>
          <p:nvPr/>
        </p:nvSpPr>
        <p:spPr>
          <a:xfrm>
            <a:off x="3924360" y="3860640"/>
            <a:ext cx="695160" cy="2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87044"/>
          <p:cNvSpPr/>
          <p:nvPr/>
        </p:nvSpPr>
        <p:spPr>
          <a:xfrm>
            <a:off x="1692360" y="5013360"/>
            <a:ext cx="695160" cy="2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87045"/>
          <p:cNvSpPr/>
          <p:nvPr/>
        </p:nvSpPr>
        <p:spPr>
          <a:xfrm>
            <a:off x="3798720" y="5411880"/>
            <a:ext cx="476280" cy="2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图片 86017" descr=""/>
          <p:cNvPicPr/>
          <p:nvPr/>
        </p:nvPicPr>
        <p:blipFill>
          <a:blip r:embed="rId1"/>
          <a:stretch/>
        </p:blipFill>
        <p:spPr>
          <a:xfrm>
            <a:off x="361800" y="2257560"/>
            <a:ext cx="8420400" cy="2342880"/>
          </a:xfrm>
          <a:prstGeom prst="rect">
            <a:avLst/>
          </a:prstGeom>
          <a:ln w="0">
            <a:noFill/>
          </a:ln>
        </p:spPr>
      </p:pic>
      <p:sp>
        <p:nvSpPr>
          <p:cNvPr id="1452" name="矩形 86019"/>
          <p:cNvSpPr/>
          <p:nvPr/>
        </p:nvSpPr>
        <p:spPr>
          <a:xfrm>
            <a:off x="8139240" y="2238480"/>
            <a:ext cx="3776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3" name="图片 84993" descr=""/>
          <p:cNvPicPr/>
          <p:nvPr/>
        </p:nvPicPr>
        <p:blipFill>
          <a:blip r:embed="rId1"/>
          <a:stretch/>
        </p:blipFill>
        <p:spPr>
          <a:xfrm>
            <a:off x="361800" y="1562040"/>
            <a:ext cx="8420400" cy="3733920"/>
          </a:xfrm>
          <a:prstGeom prst="rect">
            <a:avLst/>
          </a:prstGeom>
          <a:ln w="0">
            <a:noFill/>
          </a:ln>
        </p:spPr>
      </p:pic>
      <p:sp>
        <p:nvSpPr>
          <p:cNvPr id="1454" name="矩形 84994"/>
          <p:cNvSpPr/>
          <p:nvPr/>
        </p:nvSpPr>
        <p:spPr>
          <a:xfrm>
            <a:off x="2843280" y="2400480"/>
            <a:ext cx="68256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矩形 84995"/>
          <p:cNvSpPr/>
          <p:nvPr/>
        </p:nvSpPr>
        <p:spPr>
          <a:xfrm>
            <a:off x="6084720" y="2781360"/>
            <a:ext cx="52092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6" name="图片 83969" descr=""/>
          <p:cNvPicPr/>
          <p:nvPr/>
        </p:nvPicPr>
        <p:blipFill>
          <a:blip r:embed="rId1"/>
          <a:stretch/>
        </p:blipFill>
        <p:spPr>
          <a:xfrm>
            <a:off x="347760" y="2614680"/>
            <a:ext cx="8448480" cy="1628640"/>
          </a:xfrm>
          <a:prstGeom prst="rect">
            <a:avLst/>
          </a:prstGeom>
          <a:ln w="0">
            <a:noFill/>
          </a:ln>
        </p:spPr>
      </p:pic>
      <p:sp>
        <p:nvSpPr>
          <p:cNvPr id="1457" name="矩形 83970"/>
          <p:cNvSpPr/>
          <p:nvPr/>
        </p:nvSpPr>
        <p:spPr>
          <a:xfrm>
            <a:off x="1071720" y="3409920"/>
            <a:ext cx="3776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矩形 83971"/>
          <p:cNvSpPr/>
          <p:nvPr/>
        </p:nvSpPr>
        <p:spPr>
          <a:xfrm>
            <a:off x="3780000" y="3789360"/>
            <a:ext cx="56808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9" name="图片 82945" descr=""/>
          <p:cNvPicPr/>
          <p:nvPr/>
        </p:nvPicPr>
        <p:blipFill>
          <a:blip r:embed="rId1"/>
          <a:stretch/>
        </p:blipFill>
        <p:spPr>
          <a:xfrm>
            <a:off x="495360" y="1538280"/>
            <a:ext cx="8153280" cy="3781440"/>
          </a:xfrm>
          <a:prstGeom prst="rect">
            <a:avLst/>
          </a:prstGeom>
          <a:ln w="0">
            <a:noFill/>
          </a:ln>
        </p:spPr>
      </p:pic>
      <p:sp>
        <p:nvSpPr>
          <p:cNvPr id="1460" name="矩形 82946"/>
          <p:cNvSpPr/>
          <p:nvPr/>
        </p:nvSpPr>
        <p:spPr>
          <a:xfrm>
            <a:off x="7815240" y="3124080"/>
            <a:ext cx="37800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81921" descr=""/>
          <p:cNvPicPr/>
          <p:nvPr/>
        </p:nvPicPr>
        <p:blipFill>
          <a:blip r:embed="rId1"/>
          <a:stretch/>
        </p:blipFill>
        <p:spPr>
          <a:xfrm>
            <a:off x="485640" y="1409760"/>
            <a:ext cx="8172720" cy="4038480"/>
          </a:xfrm>
          <a:prstGeom prst="rect">
            <a:avLst/>
          </a:prstGeom>
          <a:ln w="0">
            <a:noFill/>
          </a:ln>
        </p:spPr>
      </p:pic>
      <p:sp>
        <p:nvSpPr>
          <p:cNvPr id="1462" name="矩形 81922"/>
          <p:cNvSpPr/>
          <p:nvPr/>
        </p:nvSpPr>
        <p:spPr>
          <a:xfrm>
            <a:off x="7815240" y="2428920"/>
            <a:ext cx="463680" cy="3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80897" descr=""/>
          <p:cNvPicPr/>
          <p:nvPr/>
        </p:nvPicPr>
        <p:blipFill>
          <a:blip r:embed="rId1"/>
          <a:stretch/>
        </p:blipFill>
        <p:spPr>
          <a:xfrm>
            <a:off x="504720" y="2048040"/>
            <a:ext cx="8134560" cy="2761920"/>
          </a:xfrm>
          <a:prstGeom prst="rect">
            <a:avLst/>
          </a:prstGeom>
          <a:ln w="0">
            <a:noFill/>
          </a:ln>
        </p:spPr>
      </p:pic>
      <p:sp>
        <p:nvSpPr>
          <p:cNvPr id="1464" name="矩形 80898"/>
          <p:cNvSpPr/>
          <p:nvPr/>
        </p:nvSpPr>
        <p:spPr>
          <a:xfrm>
            <a:off x="4748040" y="2543040"/>
            <a:ext cx="49212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43:56Z</dcterms:modified>
  <cp:revision>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